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3.jpeg" ContentType="image/jpe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E02-8ECA-45FF-8D66-E2BA9622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910-8536-427A-A53B-1C0D41F6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234-8496-44F1-BBAF-164C6616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615-D5B5-426B-A560-53BDEBD7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C9C0-76CF-4E79-A283-4C69E775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9367-8DB0-477F-9C8B-7816F31F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E134-F1EC-4112-B7A9-78441D03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455C-AB24-47FD-BE7C-A55643A5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27A7-6D08-4014-97C8-4160FE48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4FB2-C09F-4DED-A4CF-34BC22CC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917D-54DB-46AC-9F94-A8A0261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BE2-8C91-41A3-9769-794BE23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AE48-F3F1-407A-8ABF-DA3DA0DE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05C3-9443-4784-9AAE-3DD130BD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367C-BA17-4591-9F89-1DECD886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9BD6-487A-4871-9555-D1BC5217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1F96-DF50-41B8-A825-A373BC29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539-D44D-43EC-89A9-37085B1D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1C8-A1CA-4847-889B-20A415D9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BC6-E57B-4AA3-89F4-E179B525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954-EE57-4038-B465-7237C08C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552-FD86-4430-8020-A454D60C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9A3-6E3C-41E6-8C21-9D29658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50B-87E1-4750-9D3D-2EA30063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F33C-A61A-4BB1-915A-EFF7574481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240-EB97-4CF4-B270-78ADF3F4E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%20want.MPG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68580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Unit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86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LON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NTARC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5029200"/>
            <a:ext cx="194796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2680" y="4495680"/>
            <a:ext cx="914400" cy="9144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4495680"/>
            <a:ext cx="1067040" cy="91440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-131760"/>
            <a:ext cx="8381880" cy="70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canning:True or False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(    )The author made her Antarctica expedition in December,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(    ) The weather in Antarctica was changeable, which added difficulty to he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(    ) She fell into a deep hole and fell down onto the bottom, a few hundred f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(    ) Climbing along the ropes to the sled, she quickly returned to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(    ) Although she was hurt, she still decided to continue her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685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86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0400" y="822240"/>
            <a:ext cx="14479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 November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038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ut luckily she hung on the ropes which were tied to the s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56386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t took her a long time to climb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6338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657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257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64008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6329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Find out some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520"/>
            <a:ext cx="7696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5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hird 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we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day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morn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l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33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veled alone at the North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143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gan her jour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2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uggled through stormy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438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yed in her 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048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lebrated her 6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birth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36576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ell into a hole and climbed  out fi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9528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d a bad accident with the sled and hurt her 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6324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ave up and went back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9072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rther reading: answer the follow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3352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How did Helen Thayer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How did she celebrate her 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walked ,skied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led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286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aw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ed a frozen cake with a candle,sa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the top of her voice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3341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/>
          </p:cNvPr>
          <p:cNvSpPr/>
          <p:nvPr/>
        </p:nvSpPr>
        <p:spPr>
          <a:xfrm>
            <a:off x="1523880" y="342900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5257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y self-rescuing. Thanks to all the training she had had. She was in good health and her equipment worked well.She had strong w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733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     How did she struggle out of the h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id she succ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129528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struggled to her knees and tried every means to put the tent up and dragged her sleeping bag into the tent and lay down out of the cold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28600"/>
            <a:ext cx="7878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How did she prevent herself from being frozen to death after the accid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124080"/>
            <a:ext cx="8153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Some people think Thayer’s trip was a failure. Do you think so ? When she made the final decision , which things did she take into conside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Do you think she went t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nly to celebrate 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were her real purpo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66680" y="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ll in the blan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91440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wanted to _______  my birthday in a special way. After making the necessary__________, I started the journey of _______ on Nov.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,1997. The weather in Antarctica was ________. Sometimes the wind was too_______ for us to pace any inch;sometimes terrible snow storms came _______  and I had to use my tent as  a _______. Besides, I once fell into a hole and fortunately _____  myself out. The worst was that I had a bad_______ with the sled, which forced me to _____ up my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838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eleb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676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209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809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dde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sc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5486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9436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0"/>
            <a:ext cx="23623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1009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What kind of woman is Helen Thayer?    What can you learn from 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077320" y="518148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21337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ve, strong, responsible, confident, optimistic, strong will, never give up, give in to difficulty, like challeng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3429000"/>
            <a:ext cx="3429000" cy="15238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886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10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roup work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 an interview to Helen Thayer. One acts as Helen Thayer. The other three act as  reporters or journa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76520" y="41911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00600"/>
            <a:ext cx="8076960" cy="174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 WOR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down some sentences to describe Helen Th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5257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Helen Th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179280"/>
            <a:ext cx="426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She is a cross country ski racer and climber. She walked and skied alone to the North Pole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88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t the age of 50 and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2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she returned to the North Pole again.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5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she wrote a book about her journey to the pole named </a:t>
            </a:r>
            <a:r>
              <a:rPr b="1" i="1" lang="en-US" sz="2800" spc="-1" strike="noStrike">
                <a:solidFill>
                  <a:srgbClr val="6600cc"/>
                </a:solidFill>
                <a:latin typeface="Comic Sans MS"/>
              </a:rPr>
              <a:t>POLAR DREAM.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7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Helen spent her 60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birthday traveling alone in 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Antar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362320" y="762120"/>
          <a:ext cx="56386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762120"/>
                    <a:ext cx="5638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638680"/>
            <a:ext cx="63244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ntarctic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the Sou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62120"/>
            <a:ext cx="5715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ctic( the Nor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42670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ngu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olar  b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7621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on the   North Po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10552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in Antarct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791320"/>
            <a:ext cx="8839080" cy="1068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cy wind ,sunshine 24h 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rm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90 degrees below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em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120" y="4572000"/>
            <a:ext cx="6112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213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867280"/>
            <a:ext cx="89154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little human activities because of the extreme cl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6019920"/>
            <a:ext cx="7391160" cy="579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2120" y="6019920"/>
            <a:ext cx="7924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nger is jus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round the co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940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Skimming (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lone in Antarctica</a:t>
            </a: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990720"/>
            <a:ext cx="7696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ain idea of this t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What dangers did she meet with while travelling in Antarc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5238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len traveled alone in Antarct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ccessfully overcame the difficulty s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80060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o strong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lling into a h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 bad accident with the sled and hurt her leg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7:28:57Z</dcterms:created>
  <dc:creator>njsz_personal</dc:creator>
  <dc:description/>
  <dc:language>en-US</dc:language>
  <cp:lastModifiedBy>zy</cp:lastModifiedBy>
  <dcterms:modified xsi:type="dcterms:W3CDTF">2005-03-27T13:00:39Z</dcterms:modified>
  <cp:revision>13</cp:revision>
  <dc:subject/>
  <dc:title>PowerPoint 演示文稿</dc:title>
</cp:coreProperties>
</file>